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314-B349-4E58-B88A-F24E21C5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05C-2B34-4495-B9BD-C7427491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2DF-D63A-4F59-BEED-811514C8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BC4-F58D-4531-A4FA-A709FF35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C9C4-E28A-45F7-8CDA-7DFE7409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56A9-4C38-4BF7-B69F-AB02FD1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EF0A-5125-402F-A374-62871A6C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BDD3-F78D-4E2A-B9F9-711CC6EC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EED-3525-4346-B67D-415625B2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0A3C-46F9-439B-A140-6975C838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472-7936-4921-9B08-4129D2E7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E06-6267-438F-9CAC-5B9B0EB9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38CC-3E74-4345-99E1-DE2458B4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D587-260F-46D8-ABDD-AAF6F84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79A5-0848-4FBA-AF23-5D23C7D0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3D55-586F-473F-96E8-01403E1B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C200-49E5-4318-8946-4B959EEB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E47-3D75-4104-B138-62DC2551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421-B0C3-49A5-B393-2D5759D7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FB4-2CEF-4AFB-809B-B11821F9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493-7ED2-4A25-A5C5-129CF06A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574-5C44-47A4-86C1-0C95D99E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A0C-042D-460F-923D-D2BABA4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BF0-4A9C-4DE8-904A-79B473A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3E7D-A8B2-424C-90BF-4C00617274E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8F84-C691-46B7-BE7E-488CF7C21FD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nited States Histo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ssential Ques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is history, and why should we study it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the past shape the present and the futur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 we shape history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istory begins with a question or problem…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How can this question be answered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ather evide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rtifact = human made obje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imary source = document or other record of past events by people who were present during the event or the peri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ary source = book or commentary about an event from someone who was not present during the event or the perio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How can this question be answered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lect and weigh evide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amine point of view – perspective or outlook on ev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sider bias – information or conclusions that reflect a distinct point of vie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nstruct and interpret the P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stablish chronology – sequence of ev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alysis of events supported by eviden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s History ever finished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pe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Study History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e9964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ad Section 1.4  pages 12-1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e9964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ist and rank the four reasons for studying histo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 = most importa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 = least importa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e a brief reason for each rank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t’s all about you (literally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imeline Activi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a timeline of your life from the time you were born to the age you are now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 your timeline use a mark for each year of your lif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e the five most important events of your life on the timeline with your age and a brief description of what happened and why it was importa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can add illustrations if you choo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mework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sk someone in your family what they think the five most important events in your life wer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pdate your timeline (in a different color) with your family member’s opin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t the bottom or on the back of the timeline explain why you think you and your family member interpreted the past similarly or differentl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rcks Time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2819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0160" y="323856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Fire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reated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7920" y="31622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ircks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orn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4764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0,000 B.C.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24240" y="24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965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24440" y="24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985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23000" y="316224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ollege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 Scotland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48320" y="24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31622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Marries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m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47644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1993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71840" y="316224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aley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orn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048120"/>
            <a:ext cx="533520" cy="2057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02240" y="476244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ot much happens between !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56:27Z</dcterms:created>
  <dc:creator> </dc:creator>
  <dc:description/>
  <dc:language>en-US</dc:language>
  <cp:lastModifiedBy> </cp:lastModifiedBy>
  <dcterms:modified xsi:type="dcterms:W3CDTF">2008-08-20T20:41:36Z</dcterms:modified>
  <cp:revision>7</cp:revision>
  <dc:subject/>
  <dc:title>American Studies</dc:title>
</cp:coreProperties>
</file>